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E5B100C-6A64-4F5D-A527-1B4834B6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450-E056-495C-86BF-2CE9ED2B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091-662F-43F2-9BA5-38D21263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EFB-4A10-4C8F-9DB9-FB059A4E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F21-7502-4A42-9F3D-B3C495FB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67BD-854A-436D-A980-BAB9E0C6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1736-5DDE-40A8-88C2-5390A3E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1A36-DF74-45A8-A627-FF369FED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123B-86CC-468F-9AF7-6F14F68B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B8D3-127C-4094-8161-C441E5A8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84F8-CA6E-4E24-8E86-90DB99B9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332A-7BF4-48F1-A008-BB43CA77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356-7BA6-4636-BA1E-6F51BD37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A819-3748-42E1-B8A8-ED26D88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6823-3483-4D9A-9EB6-C22FE09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DD37-3A74-4C37-AF3A-3A4C1E29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1FB7-DA67-456A-8479-1889360C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E77D-008F-4EDF-BFD7-9294FE70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F65-9F9C-4DFA-8397-D90B492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D48-4F7B-4A2E-A6E9-940C57D6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B06-11BB-46EB-B75B-F2590C58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25E-FE1A-4AAE-BAF4-866F8726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955-746B-4F1D-942A-F63C467D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815-3D36-4B79-B372-19561D7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C08-531F-4AB3-AFF5-DE3088EB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005C-1404-428A-AA26-CEE26183FE5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ED70-3BC0-4F7C-B6EB-A05764415E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Monday, November 1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l Work:  Sally guessed on one of her math questions.  There were four answers to choose from.  What is the probability that she answered the question correctl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-Unit 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4200" spc="-1" strike="noStrike">
                <a:solidFill>
                  <a:srgbClr val="ffff99"/>
                </a:solidFill>
                <a:latin typeface="Broadway"/>
              </a:rPr>
              <a:t>Tuesday, November 2, 2010</a:t>
            </a:r>
            <a:endParaRPr b="0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l work: What are parallel line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es and Ang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son 3.1, problems 2-2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600" spc="-1" strike="noStrike">
                <a:solidFill>
                  <a:srgbClr val="ffff99"/>
                </a:solidFill>
                <a:latin typeface="Broadway"/>
              </a:rPr>
              <a:t>Wednesday November 4, 2010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l work: Solve 2x + 3 = 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es and Ang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son 3.2, problems 3-9, 11-16, 29-3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1-04T22:03:06Z</dcterms:modified>
  <cp:revision>56</cp:revision>
  <dc:subject/>
  <dc:title>Slide 1</dc:title>
</cp:coreProperties>
</file>